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145193"/>
        <c:axId val="95178470"/>
      </c:barChart>
      <c:catAx>
        <c:axId val="841451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78470"/>
        <c:crosses val="autoZero"/>
        <c:auto val="1"/>
        <c:lblAlgn val="ctr"/>
        <c:lblOffset val="100"/>
        <c:noMultiLvlLbl val="0"/>
      </c:catAx>
      <c:valAx>
        <c:axId val="951784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451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433-7E51-4172-81CA-97496A96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0020-AEB7-4FCD-A54D-43A878AF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9C9-C452-4D8D-BA5F-A9C50E34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18CF-DDEC-4BD6-9906-7168C87B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CC49-93BD-4BA0-A2FE-A20F4361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AFF1-F002-4A82-9D60-EB5D167B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117-F34C-40C3-8A89-08EE4FAF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AAD-6616-420E-916E-432AD130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B05F-34B9-4011-B499-177A9BB2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E6B-4D0E-450B-B775-31AB69A4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FD84-B5AC-4D47-BCCD-9402F268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A2F1-C019-4207-AF7F-35E0AE47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1296A-4419-4C3A-A912-92EC5AFBF5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