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69925"/>
        <c:axId val="88530158"/>
      </c:barChart>
      <c:catAx>
        <c:axId val="75269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30158"/>
        <c:crosses val="autoZero"/>
        <c:auto val="1"/>
        <c:lblAlgn val="ctr"/>
        <c:lblOffset val="100"/>
        <c:noMultiLvlLbl val="0"/>
      </c:catAx>
      <c:valAx>
        <c:axId val="88530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69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CFA-B3E4-4CCE-9AD9-4EC36977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ABC-7CD4-428A-A88A-0E28A0FE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421-854F-4615-B643-B8D1706B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FA5A-C22A-40D2-9BEA-53189C46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E44-62C0-4A0C-8705-69B31F0D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49E-E15E-4A4B-AD83-6ACB6D91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D70-0F6C-4AD9-A681-11BCC2D1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4A2-EB29-42B5-96F1-5957D864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5C8-7F7C-4DE4-BE86-912E4134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70B-6E28-4508-B17B-FD683692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0E0-B9A4-4853-88E2-F115543E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41F-D7B4-4B36-89EC-8982AF6C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9D4FC-2472-4AEB-8C05-9DA6C08CC5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