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64427"/>
        <c:axId val="3891809"/>
      </c:barChart>
      <c:catAx>
        <c:axId val="35764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1809"/>
        <c:crosses val="autoZero"/>
        <c:auto val="1"/>
        <c:lblAlgn val="ctr"/>
        <c:lblOffset val="100"/>
        <c:noMultiLvlLbl val="0"/>
      </c:catAx>
      <c:valAx>
        <c:axId val="3891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64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47B-D162-4720-B03E-A7AE50FE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D65C-EDA6-42EC-9279-958F5E0E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1CE-501F-40C5-BE4B-90A17589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FFA9-BBF6-4D26-98A1-4FB9E777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70E-8AC9-4C22-874D-CA719BC3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F7C-88E2-48D7-AB73-79F423D3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7F79-1884-49BD-B223-0070C511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1DBD-5253-4CB1-8935-1265D419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BD5-471E-4B7E-999D-88B50BDD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848E-42D3-47D8-BC20-739B8C44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17E-2768-4B4D-8DF8-9DE7B698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43F-EC0E-447C-8B04-730BF877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E574C-A9DA-4BF8-965E-C7D10FF306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