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73614"/>
        <c:axId val="45075302"/>
      </c:barChart>
      <c:catAx>
        <c:axId val="17373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75302"/>
        <c:crosses val="autoZero"/>
        <c:auto val="1"/>
        <c:lblAlgn val="ctr"/>
        <c:lblOffset val="100"/>
        <c:noMultiLvlLbl val="0"/>
      </c:catAx>
      <c:valAx>
        <c:axId val="45075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73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0F2-D07C-45A5-B80E-D14878E5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BE4-994C-4A7D-9E1A-17332F3D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875-2664-47D6-A230-0E9186BC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5FC-4B40-47BA-A804-E1851A1D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022-553C-4D6E-B59D-D123D1F4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857A-A691-43C5-BD22-592710AC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79F4-D5C5-4FD7-AA04-79D0F575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5AF-158F-4F68-98D9-6D8C2DCB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8E80-C6A1-4B31-90E3-BC04AFAC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86E-E1BE-4564-AE16-4540147C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FDA-F8A7-4699-A62C-2BBBB2EC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ED2-CA98-4795-AD2D-2E8BBE01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963C2-4538-44DB-8796-5F4938F55A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